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9.wmf" ContentType="image/x-wmf"/>
  <Override PartName="/ppt/media/image6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8.wmf" ContentType="image/x-wmf"/>
  <Override PartName="/ppt/media/image25.jpeg" ContentType="image/jpeg"/>
  <Override PartName="/ppt/media/image10.wmf" ContentType="image/x-wmf"/>
  <Override PartName="/ppt/media/image12.wmf" ContentType="image/x-wmf"/>
  <Override PartName="/ppt/media/image29.wmf" ContentType="image/x-wmf"/>
  <Override PartName="/ppt/media/image31.png" ContentType="image/png"/>
  <Override PartName="/ppt/media/image14.wmf" ContentType="image/x-wmf"/>
  <Override PartName="/ppt/media/image30.jpeg" ContentType="image/jpeg"/>
  <Override PartName="/ppt/media/image15.png" ContentType="image/png"/>
  <Override PartName="/ppt/media/image24.jpeg" ContentType="image/jpeg"/>
  <Override PartName="/ppt/media/image11.wmf" ContentType="image/x-wmf"/>
  <Override PartName="/ppt/media/image5.jpeg" ContentType="image/jpeg"/>
  <Override PartName="/ppt/media/image26.jpeg" ContentType="image/jpeg"/>
  <Override PartName="/ppt/media/image4.wmf" ContentType="image/x-wmf"/>
  <Override PartName="/ppt/media/image2.jpeg" ContentType="image/jpeg"/>
  <Override PartName="/ppt/media/image23.jpeg" ContentType="image/jpeg"/>
  <Override PartName="/ppt/media/image1.wmf" ContentType="image/x-wmf"/>
  <Override PartName="/ppt/media/image16.png" ContentType="image/png"/>
  <Override PartName="/ppt/media/image20.wmf" ContentType="image/x-wmf"/>
  <Override PartName="/ppt/media/image17.png" ContentType="image/png"/>
  <Override PartName="/ppt/media/image19.png" ContentType="image/png"/>
  <Override PartName="/ppt/media/image18.png" ContentType="image/png"/>
  <Override PartName="/ppt/media/image21.wmf" ContentType="image/x-wmf"/>
  <Override PartName="/ppt/media/image27.jpeg" ContentType="image/jpeg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96682-A09A-42A7-9BF7-C833DAD0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6BD33-B5D3-4D93-B12E-1661D243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4816D-CA9A-4E8C-B2C8-72048541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AD212-111D-4482-BEB3-80307663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C601-DAB5-44F8-81F2-84842D3F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DE8E-F67F-4494-AFE5-882E27AC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CE93-9242-4667-B59A-40B1C20E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CB49-070F-434C-8E66-DA16D549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B232-1E60-494E-B948-1DE8D0DE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0910-D945-4648-A7F6-3E6C2300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FF42-025B-420C-836F-AB0F717C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02DAB-5A5F-4887-8687-31B3F8C3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655A-C70C-4B26-8D13-1D56912E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5A3B-BEB7-4408-8724-FFE157EC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3818-19A4-4BFC-9CB2-778CFD62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6D4E-13A2-4DAC-8624-5B04C0F1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4BBC-2707-4127-89FA-30491432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4DF8-5CC0-4C46-9F97-7B7F337E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3A02F-3632-42C9-9A19-0C156EFD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8D69C-BFD7-4727-AE85-DF7C058F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3DCE3-B57F-4D53-8759-48EF3123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E27CD-79F8-4F63-827F-7C8EDF62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E8E53-EFDE-4904-8506-E86E3634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38E59-E266-460E-A734-6158F265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3781-FE3B-473C-9FED-8CAAC2DB34A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B7A6-23E0-4091-8589-24E8088EA2F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1828800"/>
            <a:ext cx="8164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GROWTH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ASSES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4266720"/>
            <a:ext cx="8307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 Badi AlEnaz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ant pediatric endocrinology and diabetolg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826920" y="1873080"/>
            <a:ext cx="741708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measurement (older children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Height_measurement_techniqu"/>
          <p:cNvPicPr/>
          <p:nvPr/>
        </p:nvPicPr>
        <p:blipFill>
          <a:blip r:embed="rId1"/>
          <a:stretch/>
        </p:blipFill>
        <p:spPr>
          <a:xfrm>
            <a:off x="1908000" y="1052640"/>
            <a:ext cx="52311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67328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82600" y="857160"/>
            <a:ext cx="8459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 of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ways measure Ht without shoes, and when plotting the patient in the growth curve, be accurate regarding the actual age of the child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87346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893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47052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612800" y="0"/>
            <a:ext cx="548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68360" y="1647720"/>
            <a:ext cx="84963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s of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horm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e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st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l st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468360" y="1698480"/>
            <a:ext cx="81360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keletal Matura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ne 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letal maturation is assessed by examination of a “bone age”(BA) film, which is a radiograph of the left h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 assess the  bone maturation of multiple ossification centers and compare it to standard male or female radiographs. The BA can then be compared to the patient’s chronologic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1437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ach to short st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0" y="2000160"/>
            <a:ext cx="91440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ach to short st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s to be Elicited in the History (Etiolo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 of onset: Since when is the child not gr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 growth records: School, home or physician records of previous h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eights must be sought and charted on growth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atal history: Substance abuse, medication, infections (IUG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 history: Birth weight/gestation age (IUG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/O birth asphyxia [multiple pituitary hormone deficiency (MPHD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ech delivery, neonatal hypoglycemia (GHD, MPH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longed neonatal hyperbilirubinemia (hypothyroidi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al milestones (hypothyroidism, chromosomal/genetic cau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ptoms pertaining to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ness of breath, cyanosis, cough, fever [heart disease, asthma, 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B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rrhea, steatorrhea, abdominal pain (malabsorp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ache, vomiting, visual problems (pituitary-hypothalamic ma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ipation, lethargy, feeding difficulty (hypothyroidi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−−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lyuria, renal tubercular acidosis (RTA), chronic renal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/O hepatitis, distension abdomen, melena (chronic liver dise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rent blood transfusions (thalassemia and other chronic anem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tary history: To elicit weaning practice, calorie and protein in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history: Prolonged use of corticosteroids, amphetamine 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 history of SS in first/second degree rela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 puberty in one or both pa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history: Child abuse, family discord, emotional deprivation (psychosocial dwarf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73160" y="1357200"/>
            <a:ext cx="83422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833480" y="266760"/>
            <a:ext cx="54770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25892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785960"/>
            <a:ext cx="82296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is a dynamic process influenced by many intrinsic and extrinsic factors that interplay to determine ultimate attained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619280" y="0"/>
            <a:ext cx="59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971640" y="0"/>
            <a:ext cx="64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Differential features of familial and constitutional short statur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981080"/>
          <a:ext cx="8229600" cy="3505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4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eatur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amilial short stature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nstitutional delay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arents' stature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mall (one or both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erage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arents' puberty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n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elayed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Growth (puberty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low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one age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elayed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iming of puberty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elayed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dult height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h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rmal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ENDOCRINE CAUSES OF GROWTH FAILUR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 deficiency. (congenital &amp;acquire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 res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hypopituit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yroid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corticoid ex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controlled 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iagnosed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phosphatemic  ri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7"/>
          <p:cNvPicPr/>
          <p:nvPr/>
        </p:nvPicPr>
        <p:blipFill>
          <a:blip r:embed="rId1"/>
          <a:stretch/>
        </p:blipFill>
        <p:spPr>
          <a:xfrm>
            <a:off x="2089080" y="0"/>
            <a:ext cx="496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shing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F1"/>
          <p:cNvPicPr/>
          <p:nvPr/>
        </p:nvPicPr>
        <p:blipFill>
          <a:blip r:embed="rId1"/>
          <a:stretch/>
        </p:blipFill>
        <p:spPr>
          <a:xfrm>
            <a:off x="3059280" y="1844640"/>
            <a:ext cx="28317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achondroplasia"/>
          <p:cNvPicPr/>
          <p:nvPr/>
        </p:nvPicPr>
        <p:blipFill>
          <a:blip r:embed="rId1"/>
          <a:stretch/>
        </p:blipFill>
        <p:spPr>
          <a:xfrm>
            <a:off x="219564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09hp0245"/>
          <p:cNvPicPr/>
          <p:nvPr/>
        </p:nvPicPr>
        <p:blipFill>
          <a:blip r:embed="rId1"/>
          <a:stretch/>
        </p:blipFill>
        <p:spPr>
          <a:xfrm>
            <a:off x="1116000" y="620640"/>
            <a:ext cx="619272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prader-willi"/>
          <p:cNvPicPr/>
          <p:nvPr/>
        </p:nvPicPr>
        <p:blipFill>
          <a:blip r:embed="rId1"/>
          <a:stretch/>
        </p:blipFill>
        <p:spPr>
          <a:xfrm>
            <a:off x="1655640" y="1523880"/>
            <a:ext cx="5267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 tracking of childhood growth is a sensitive indicator of health and well-being, and therefore an essential component of sound pediatric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wth hormone de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Chronic%20GH%20Deficieny%20in%20Twins1"/>
          <p:cNvPicPr/>
          <p:nvPr/>
        </p:nvPicPr>
        <p:blipFill>
          <a:blip r:embed="rId1"/>
          <a:stretch/>
        </p:blipFill>
        <p:spPr>
          <a:xfrm>
            <a:off x="2556000" y="1557360"/>
            <a:ext cx="35049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250920" y="0"/>
            <a:ext cx="813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7417080" cy="1800360"/>
          </a:xfrm>
          <a:prstGeom prst="rect">
            <a:avLst/>
          </a:prstGeom>
          <a:ln w="0">
            <a:noFill/>
          </a:ln>
        </p:spPr>
      </p:pic>
      <p:pic>
        <p:nvPicPr>
          <p:cNvPr id="190" name="صورة 5" descr="lightnin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91" name="مستطيل 6" descr=""/>
          <p:cNvPicPr/>
          <p:nvPr/>
        </p:nvPicPr>
        <p:blipFill>
          <a:blip r:embed="rId3"/>
          <a:stretch/>
        </p:blipFill>
        <p:spPr>
          <a:xfrm>
            <a:off x="2577960" y="2103480"/>
            <a:ext cx="362772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ases of Normal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tero, growth affect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lin and insulin-like growth factors 1 (IGF-1) and 2 (IGF-2). nutri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bir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weight 3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 length 50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HC 35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ases of Normal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growth velocity for children until the pubertal growth spu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12  months: 25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year:  1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year: approximately 8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r childhood until puberty (5 to 10 years): growth averages 5 to 6 cm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wth measure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ow 2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0872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antomet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Infantometer-%203"/>
          <p:cNvPicPr/>
          <p:nvPr/>
        </p:nvPicPr>
        <p:blipFill>
          <a:blip r:embed="rId1"/>
          <a:stretch/>
        </p:blipFill>
        <p:spPr>
          <a:xfrm>
            <a:off x="684360" y="1989000"/>
            <a:ext cx="6696000" cy="40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95280" y="1900080"/>
            <a:ext cx="78487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1:06:46Z</dcterms:created>
  <dc:creator>SSS</dc:creator>
  <dc:description/>
  <dc:language>en-US</dc:language>
  <cp:lastModifiedBy>Admin</cp:lastModifiedBy>
  <dcterms:modified xsi:type="dcterms:W3CDTF">2017-11-01T08:24:08Z</dcterms:modified>
  <cp:revision>12</cp:revision>
  <dc:subject/>
  <dc:title>GROWTH AND MILSTONE DISORDER</dc:title>
</cp:coreProperties>
</file>